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AC1C-6D2D-4BA8-BE90-755C506EB1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7408-4619-4E3C-B960-8115EBEB94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B9F3-CF36-4914-B127-6694B71675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8B52-595D-4508-AD3D-0B16972F60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5E2-F949-459F-88EE-587C1C24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D82-B896-4FBC-9D98-A4CD727D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66E-1A2F-4706-99BA-CFF55B7B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029-1952-4C32-8223-6D345E0B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E38-268F-4744-AF29-08724C4C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D9FB-BF67-4447-85AB-0944B8A6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97ED-20FA-406B-B6BC-B81E8DA4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877-2893-4A0C-9900-27790D59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415-7434-4854-BF47-2204A41C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4DF-97C8-40D4-A148-7BD3DF9D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3CE-A171-4E69-8FFC-DF650CF1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BCA-7B65-491C-B9E5-B7379B89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570D-9A0F-4FBE-9F6C-5D8740FE2B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3"/>
          <p:cNvSpPr/>
          <p:nvPr/>
        </p:nvSpPr>
        <p:spPr>
          <a:xfrm>
            <a:off x="611280" y="1708200"/>
            <a:ext cx="8001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тез мнемосхем для высокоавтоматизиров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танций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D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систем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4859280" y="3076560"/>
            <a:ext cx="4033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рохотов Дмитрий Серге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ОО «Компания ДЭП», 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офимов Алексей Валенти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офимов Владимир Алексееви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У МЭИ, Моск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685800" cy="6192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4"/>
          <p:cNvSpPr/>
          <p:nvPr/>
        </p:nvSpPr>
        <p:spPr>
          <a:xfrm>
            <a:off x="0" y="62712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971640" y="1238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ЕЛАВЭКСПО – 202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6874560" y="123840"/>
            <a:ext cx="21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-25 апреля 202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Чебокса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971640" y="0"/>
            <a:ext cx="720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Управление проек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08000" y="540720"/>
            <a:ext cx="89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уществляется на основе конфигуратора системы автоматизации САПР ЦВК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79280" y="1059480"/>
            <a:ext cx="40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бор на дереве модели подстанции, РУ,  яче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580000" y="105912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точнение деталей прорисов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"/>
          <p:cNvPicPr/>
          <p:nvPr/>
        </p:nvPicPr>
        <p:blipFill>
          <a:blip r:embed="rId1"/>
          <a:stretch/>
        </p:blipFill>
        <p:spPr>
          <a:xfrm>
            <a:off x="228600" y="1419120"/>
            <a:ext cx="8915400" cy="2990880"/>
          </a:xfrm>
          <a:prstGeom prst="rect">
            <a:avLst/>
          </a:prstGeom>
          <a:ln w="0">
            <a:noFill/>
          </a:ln>
        </p:spPr>
      </p:pic>
      <p:cxnSp>
        <p:nvCxnSpPr>
          <p:cNvPr id="139" name="Прямая со стрелкой 18"/>
          <p:cNvCxnSpPr/>
          <p:nvPr/>
        </p:nvCxnSpPr>
        <p:spPr>
          <a:xfrm flipH="1">
            <a:off x="4355640" y="1276200"/>
            <a:ext cx="1729440" cy="151200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40" name="Прямая со стрелкой 19"/>
          <p:cNvCxnSpPr/>
          <p:nvPr/>
        </p:nvCxnSpPr>
        <p:spPr>
          <a:xfrm flipH="1">
            <a:off x="1618920" y="1275840"/>
            <a:ext cx="2016720" cy="18723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41" name="Прямая со стрелкой 20"/>
          <p:cNvCxnSpPr/>
          <p:nvPr/>
        </p:nvCxnSpPr>
        <p:spPr>
          <a:xfrm flipH="1">
            <a:off x="1691640" y="1275840"/>
            <a:ext cx="1585080" cy="115164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42" name="Прямая со стрелкой 21"/>
          <p:cNvCxnSpPr/>
          <p:nvPr/>
        </p:nvCxnSpPr>
        <p:spPr>
          <a:xfrm flipH="1">
            <a:off x="1475640" y="1275840"/>
            <a:ext cx="1367640" cy="100872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43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53AF-15B8-4BBC-B84F-6B64FDBDDD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Выходн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08000" y="540720"/>
            <a:ext cx="90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VG файлы описания мнемосхем 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XM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файлы описания связей элементов мнемосхем с сигнал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79280" y="1135080"/>
            <a:ext cx="453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 как SVG файлы являются стандартом для графики Интернета, результат синтеза может быть просмотрен в любом Брауз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21FB-378D-45C4-9DC7-EEAB9B142C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"/>
          <p:cNvPicPr/>
          <p:nvPr/>
        </p:nvPicPr>
        <p:blipFill>
          <a:blip r:embed="rId1"/>
          <a:stretch/>
        </p:blipFill>
        <p:spPr>
          <a:xfrm>
            <a:off x="6516720" y="1058760"/>
            <a:ext cx="2482920" cy="3787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2"/>
          <a:stretch/>
        </p:blipFill>
        <p:spPr>
          <a:xfrm>
            <a:off x="539640" y="1924200"/>
            <a:ext cx="34797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11280" y="1058760"/>
            <a:ext cx="79596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описания системы автоматизаци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D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ключающий информацию о координатах первичного оборудования, может использоваться для автоматизированной генерации мнемосх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открытого графического форма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DA Sytrack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ет синтезировать мнемосхемы для А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ожены алгоритмы, позволяющие автоматизировать разработку прикладного программного обеспечения для А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"/>
          <p:cNvSpPr/>
          <p:nvPr/>
        </p:nvSpPr>
        <p:spPr>
          <a:xfrm>
            <a:off x="0" y="48420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B553-EBAC-4F3A-9DC0-6AE8D845E6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685800" cy="6192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ая соединительная линия 4"/>
          <p:cNvSpPr/>
          <p:nvPr/>
        </p:nvSpPr>
        <p:spPr>
          <a:xfrm>
            <a:off x="0" y="62712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971640" y="1238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ЕЛАВЭКСПО – 202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"/>
          <p:cNvSpPr/>
          <p:nvPr/>
        </p:nvSpPr>
        <p:spPr>
          <a:xfrm>
            <a:off x="6874560" y="123840"/>
            <a:ext cx="21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-25 апреля 202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Чебокса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90400" y="1994040"/>
            <a:ext cx="7961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859280" y="3076560"/>
            <a:ext cx="40338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офимов Алексей Валенти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ofi56@bk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Постановка задачи – автоматизация проектирования мнемосх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4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4"/>
          <p:cNvSpPr/>
          <p:nvPr/>
        </p:nvSpPr>
        <p:spPr>
          <a:xfrm>
            <a:off x="4140360" y="3724200"/>
            <a:ext cx="2232000" cy="935280"/>
          </a:xfrm>
          <a:prstGeom prst="ellipse">
            <a:avLst/>
          </a:prstGeom>
          <a:noFill/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108000" y="1216080"/>
            <a:ext cx="3816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рафического отображения информации посредством ПТК и АСУ ТП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0" y="4084560"/>
            <a:ext cx="385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9. При проектировании цифровой ПС должны быть разработаны и впоследствии включены в состав электронной документации цифровой ПС файлы электронной конфигурации SSD и SC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179280" y="2643120"/>
            <a:ext cx="3348000" cy="5763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0"/>
          <p:cNvSpPr/>
          <p:nvPr/>
        </p:nvSpPr>
        <p:spPr>
          <a:xfrm>
            <a:off x="0" y="3219480"/>
            <a:ext cx="399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Цифровой питающий центр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ребования к технологическому проектировани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цифровых подстанций напряжением 110-220 к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узловых цифровых подстанций напряжением 35 к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"/>
          <p:cNvPicPr/>
          <p:nvPr/>
        </p:nvPicPr>
        <p:blipFill>
          <a:blip r:embed="rId2"/>
          <a:stretch/>
        </p:blipFill>
        <p:spPr>
          <a:xfrm>
            <a:off x="23760" y="588960"/>
            <a:ext cx="3816360" cy="612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"/>
          <p:cNvPicPr/>
          <p:nvPr/>
        </p:nvPicPr>
        <p:blipFill>
          <a:blip r:embed="rId3"/>
          <a:stretch/>
        </p:blipFill>
        <p:spPr>
          <a:xfrm>
            <a:off x="3924360" y="627120"/>
            <a:ext cx="5111640" cy="423864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6"/>
          <p:cNvSpPr/>
          <p:nvPr/>
        </p:nvSpPr>
        <p:spPr>
          <a:xfrm>
            <a:off x="6553080" y="480384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CE35-C632-435F-8219-AFC067F2C2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258920" y="50760"/>
            <a:ext cx="696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труктура информационной модели по МЭК 61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555480"/>
            <a:ext cx="7093080" cy="3672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4248000" y="3457440"/>
            <a:ext cx="489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SCD файле представл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ервичное оборудование с принадлежностью к РУ и ячейка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топология главной схемы (выводы оборудования и узлы связ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логические узлы, реализующие функции автомат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ИЭУ (IED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строй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цифровая се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для каждого оборудования предусмотрены его координаты на схем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1"/>
          <p:cNvSpPr/>
          <p:nvPr/>
        </p:nvSpPr>
        <p:spPr>
          <a:xfrm>
            <a:off x="6553080" y="48070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2590-D8B5-4B58-8AC0-98FCFFB3CB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Структурная схе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6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вязь данных логических узлов с элементами мнемосх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2697840" y="627120"/>
            <a:ext cx="161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tageLevel 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Объект 7"/>
          <p:cNvGraphicFramePr/>
          <p:nvPr/>
        </p:nvGraphicFramePr>
        <p:xfrm>
          <a:off x="826920" y="1112760"/>
          <a:ext cx="7366320" cy="34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12760"/>
                    <a:ext cx="736632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6" name="Прямая со стрелкой 13"/>
          <p:cNvCxnSpPr>
            <a:stCxn id="73" idx="2"/>
          </p:cNvCxnSpPr>
          <p:nvPr/>
        </p:nvCxnSpPr>
        <p:spPr>
          <a:xfrm flipH="1">
            <a:off x="3491640" y="934920"/>
            <a:ext cx="11880" cy="342000"/>
          </a:xfrm>
          <a:prstGeom prst="straightConnector1">
            <a:avLst/>
          </a:prstGeom>
          <a:ln w="25560">
            <a:solidFill>
              <a:srgbClr val="7575d1"/>
            </a:solidFill>
            <a:miter/>
            <a:tailEnd len="med" type="arrow" w="med"/>
          </a:ln>
        </p:spPr>
      </p:cxnSp>
      <p:sp>
        <p:nvSpPr>
          <p:cNvPr id="77" name="Номер слайда 5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F1B8-ADDA-4398-A16E-9D76BAFDC2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VG 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формат для граф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611280" y="3003480"/>
            <a:ext cx="792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матизированное формирование мнемосхем возможно только при наличии открытого формата входных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D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ы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ременные разработки широко используют формат масштабируемой векторной графики SVG (Scalable Vector Graphics), также базирующийся 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539640" y="555480"/>
            <a:ext cx="813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йл SCD представляет собой текстовый файл на языке описания подстанций SCL (Substation Configuration Language) формата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55640" y="1069200"/>
            <a:ext cx="77770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Level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L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10"&gt;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ltiplier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it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&gt;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y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Присоединение ТСН 10 кВ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ingEquipment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Q1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CBR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ключатель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x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1401"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y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744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dir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ertical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ode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d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  <a:ea typeface="Calibri"/>
              </a:rPr>
              <a:t>AA1K1Q01A1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Verdana"/>
                <a:ea typeface="Calibri"/>
              </a:rPr>
              <a:t>ldInst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  <a:ea typeface="Calibri"/>
              </a:rPr>
              <a:t>="LD0"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nClass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CSWI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”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Verdana"/>
                <a:ea typeface="Calibri"/>
              </a:rPr>
              <a:t>prefix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  <a:ea typeface="Calibri"/>
              </a:rPr>
              <a:t>="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B1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  <a:ea typeface="Calibri"/>
              </a:rPr>
              <a:t>”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lnInst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1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vityNod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500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/VL_10/TN1K/L152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tation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0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NN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oltageLevel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L_10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ode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L152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vityNod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500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/VL_10/TN1K/L148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tation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0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NN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oltageLevel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L_10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ode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L148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    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tingEquipment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&gt;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763640" y="4228200"/>
            <a:ext cx="51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&lt;rect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x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0"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y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0"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width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10"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height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10"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style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fill: none; stroke: black;"</a:t>
            </a:r>
            <a:r>
              <a:rPr b="1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/&gt;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1755-5F77-4CBE-BDB2-8CB016F063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труктура проекта АРМ в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CADA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y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0" y="555480"/>
            <a:ext cx="4610160" cy="42674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4716360" y="84348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Мнемосх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380360" y="8434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Шабл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3DAB-0CA0-4022-872B-8AEC919D64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4"/>
          <p:cNvCxnSpPr/>
          <p:nvPr/>
        </p:nvCxnSpPr>
        <p:spPr>
          <a:xfrm flipH="1">
            <a:off x="4139640" y="1131480"/>
            <a:ext cx="719640" cy="93564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pic>
        <p:nvPicPr>
          <p:cNvPr id="94" name="Picture 12" descr=""/>
          <p:cNvPicPr/>
          <p:nvPr/>
        </p:nvPicPr>
        <p:blipFill>
          <a:blip r:embed="rId2"/>
          <a:stretch/>
        </p:blipFill>
        <p:spPr>
          <a:xfrm>
            <a:off x="5148360" y="2066760"/>
            <a:ext cx="3456000" cy="2932200"/>
          </a:xfrm>
          <a:prstGeom prst="rect">
            <a:avLst/>
          </a:prstGeom>
          <a:ln w="0">
            <a:noFill/>
          </a:ln>
        </p:spPr>
      </p:pic>
      <p:cxnSp>
        <p:nvCxnSpPr>
          <p:cNvPr id="95" name="Прямая со стрелкой 12"/>
          <p:cNvCxnSpPr/>
          <p:nvPr/>
        </p:nvCxnSpPr>
        <p:spPr>
          <a:xfrm>
            <a:off x="7811640" y="1131480"/>
            <a:ext cx="1080" cy="8643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труктура проекта АРМ в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CADA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y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24360" y="5558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Мнемосх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067280" y="1708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Шабл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484360" y="91656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me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148360" y="91656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me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771640" y="199548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s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5724360" y="199548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s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"/>
          <p:cNvPicPr/>
          <p:nvPr/>
        </p:nvPicPr>
        <p:blipFill>
          <a:blip r:embed="rId1"/>
          <a:stretch/>
        </p:blipFill>
        <p:spPr>
          <a:xfrm>
            <a:off x="395280" y="2211480"/>
            <a:ext cx="4032360" cy="238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"/>
          <p:cNvPicPr/>
          <p:nvPr/>
        </p:nvPicPr>
        <p:blipFill>
          <a:blip r:embed="rId2"/>
          <a:stretch/>
        </p:blipFill>
        <p:spPr>
          <a:xfrm>
            <a:off x="0" y="1203480"/>
            <a:ext cx="4859280" cy="215640"/>
          </a:xfrm>
          <a:prstGeom prst="rect">
            <a:avLst/>
          </a:prstGeom>
          <a:ln w="0">
            <a:noFill/>
          </a:ln>
        </p:spPr>
      </p:pic>
      <p:cxnSp>
        <p:nvCxnSpPr>
          <p:cNvPr id="107" name="Прямая со стрелкой 18"/>
          <p:cNvCxnSpPr/>
          <p:nvPr/>
        </p:nvCxnSpPr>
        <p:spPr>
          <a:xfrm>
            <a:off x="2195640" y="1418760"/>
            <a:ext cx="792720" cy="57708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08" name="Прямая со стрелкой 20"/>
          <p:cNvCxnSpPr/>
          <p:nvPr/>
        </p:nvCxnSpPr>
        <p:spPr>
          <a:xfrm flipH="1">
            <a:off x="1042200" y="1418760"/>
            <a:ext cx="2089800" cy="79308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09" name="Прямоугольник 22"/>
          <p:cNvSpPr/>
          <p:nvPr/>
        </p:nvSpPr>
        <p:spPr>
          <a:xfrm>
            <a:off x="4932360" y="1131840"/>
            <a:ext cx="396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ListOpcObjs NameObj="Q" OpcName="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П3\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\0001)" VisNoCon="false" VisAsParent="true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6" descr=""/>
          <p:cNvPicPr/>
          <p:nvPr/>
        </p:nvPicPr>
        <p:blipFill>
          <a:blip r:embed="rId3"/>
          <a:stretch/>
        </p:blipFill>
        <p:spPr>
          <a:xfrm>
            <a:off x="4500720" y="2355840"/>
            <a:ext cx="4643280" cy="1905120"/>
          </a:xfrm>
          <a:prstGeom prst="rect">
            <a:avLst/>
          </a:prstGeom>
          <a:ln w="0">
            <a:noFill/>
          </a:ln>
        </p:spPr>
      </p:pic>
      <p:cxnSp>
        <p:nvCxnSpPr>
          <p:cNvPr id="111" name="Прямая со стрелкой 25"/>
          <p:cNvCxnSpPr/>
          <p:nvPr/>
        </p:nvCxnSpPr>
        <p:spPr>
          <a:xfrm flipV="1">
            <a:off x="1258560" y="2426760"/>
            <a:ext cx="4034520" cy="21672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12" name="Rectangle 7"/>
          <p:cNvSpPr/>
          <p:nvPr/>
        </p:nvSpPr>
        <p:spPr>
          <a:xfrm>
            <a:off x="6227640" y="156384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сылка на структурированную переменну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Прямая со стрелкой 32"/>
          <p:cNvCxnSpPr/>
          <p:nvPr/>
        </p:nvCxnSpPr>
        <p:spPr>
          <a:xfrm flipV="1">
            <a:off x="7524360" y="1347480"/>
            <a:ext cx="1080" cy="28800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14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C5EE-6CC9-4537-8067-969A5EC04A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39640" y="0"/>
            <a:ext cx="813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Исходн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08000" y="1073160"/>
            <a:ext cx="777708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Level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L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10"&gt;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ltiplier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it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&gt;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/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y 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Присоединение ТСН 10 кВ"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ingEquipment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Q1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CBR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ключатель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x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1401"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y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744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dir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ertical"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ode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d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Verdana"/>
                <a:ea typeface="Calibri"/>
              </a:rPr>
              <a:t>AA1K1Q01A1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Verdana"/>
                <a:ea typeface="Calibri"/>
              </a:rPr>
              <a:t>ldInst</a:t>
            </a:r>
            <a:r>
              <a:rPr b="0" lang="en-US" sz="1100" spc="-1" strike="noStrike">
                <a:solidFill>
                  <a:srgbClr val="0000ff"/>
                </a:solidFill>
                <a:latin typeface="Verdana"/>
                <a:ea typeface="Calibri"/>
              </a:rPr>
              <a:t>="LD0"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nClass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CSWI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”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Verdana"/>
                <a:ea typeface="Calibri"/>
              </a:rPr>
              <a:t>prefix</a:t>
            </a:r>
            <a:r>
              <a:rPr b="0" lang="en-US" sz="1100" spc="-1" strike="noStrike">
                <a:solidFill>
                  <a:srgbClr val="0000ff"/>
                </a:solidFill>
                <a:latin typeface="Verdana"/>
                <a:ea typeface="Calibri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B1</a:t>
            </a:r>
            <a:r>
              <a:rPr b="0" lang="en-US" sz="1100" spc="-1" strike="noStrike">
                <a:solidFill>
                  <a:srgbClr val="0000ff"/>
                </a:solidFill>
                <a:latin typeface="Verdana"/>
                <a:ea typeface="Calibri"/>
              </a:rPr>
              <a:t>”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lnInst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1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vityNod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500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/VL_10/TN1K/L152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tation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0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NN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oltageLevel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L_10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ode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L152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vityNod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500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/VL_10/TN1K/L148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tation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0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NN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oltageLevel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L_10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ode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L148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     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tingEquipment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&gt;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1835280" y="3292560"/>
            <a:ext cx="7175520" cy="17208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250920" y="627120"/>
            <a:ext cx="12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фай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5003640" y="2932200"/>
            <a:ext cx="399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йл шаблонов элементов (типовых блок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 стрелкой 10"/>
          <p:cNvCxnSpPr/>
          <p:nvPr/>
        </p:nvCxnSpPr>
        <p:spPr>
          <a:xfrm flipH="1">
            <a:off x="2268360" y="1635120"/>
            <a:ext cx="648360" cy="1658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3" name="Прямая со стрелкой 12"/>
          <p:cNvCxnSpPr/>
          <p:nvPr/>
        </p:nvCxnSpPr>
        <p:spPr>
          <a:xfrm flipH="1">
            <a:off x="2555280" y="1779120"/>
            <a:ext cx="432360" cy="151380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4" name="Прямая со стрелкой 17"/>
          <p:cNvCxnSpPr/>
          <p:nvPr/>
        </p:nvCxnSpPr>
        <p:spPr>
          <a:xfrm>
            <a:off x="1186920" y="2139480"/>
            <a:ext cx="3817080" cy="158508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5" name="Прямая со стрелкой 19"/>
          <p:cNvCxnSpPr/>
          <p:nvPr/>
        </p:nvCxnSpPr>
        <p:spPr>
          <a:xfrm>
            <a:off x="1115640" y="2500200"/>
            <a:ext cx="3817080" cy="151200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26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6EB1-8190-4BE8-B031-2BBCAA3ACA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3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0"/>
            <a:ext cx="792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Алгоритм форм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95280" y="648360"/>
            <a:ext cx="82821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ановка УГО из шаблон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На основе данных о расположении оборудования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CD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УГО типовых блоков можно расставить на чертеже мнемосхемы простейши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вадратно гнездов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етодом, задавая каждому блоку его уникальное обозначе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единение аппарато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основе данных о подключениях выводов оборудования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Terminal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 к узлам связи (connectivityNode). Определение координат узла связи может быть выполнено на основе анализа топологического графа схемы, вершинами которого являются координаты выводов подключенных УГО оборудования и узлов связ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ановка индикаторов места управл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По данным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oc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логических узло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CSW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связанных с оборудова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ановка индикаторов аналоговых сигнал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На основе логических узло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MMXU, MMX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ходящих в наборы данных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DataSet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, передаваемых по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MM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язь УГО с переменными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динамизации элементов схемы. Для этого могут использоваться описания объектов данных логических узлов, которые затем должн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ть связаны с сигналами объекта управления. Например, в логическом узле управления коммутационным аппаратом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CSW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 положение выключателя - AA1K1Q01A1$LD0$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CSWI1$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o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C4F6-D9F4-420D-96B7-D190BCD4B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09:48:19Z</dcterms:created>
  <dc:creator>Acer</dc:creator>
  <dc:description/>
  <dc:language>en-US</dc:language>
  <cp:lastModifiedBy>Пользователь Windows</cp:lastModifiedBy>
  <dcterms:modified xsi:type="dcterms:W3CDTF">2024-04-15T13:15:06Z</dcterms:modified>
  <cp:revision>472</cp:revision>
  <dc:subject/>
  <dc:title>Слайд 1</dc:title>
</cp:coreProperties>
</file>